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48320" y="706320"/>
            <a:ext cx="41940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48320" y="706320"/>
            <a:ext cx="41940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48320" y="706320"/>
            <a:ext cx="41940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3/31/09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1" marL="144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22716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3" marL="68580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4" marL="102888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5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6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Click to edit the title text format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2600" y="6502320"/>
            <a:ext cx="156852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1"/>
          </p:nvPr>
        </p:nvSpPr>
        <p:spPr>
          <a:xfrm>
            <a:off x="4509720" y="77760"/>
            <a:ext cx="432900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EB3698F1-7931-42C6-A26E-D12735E9F27A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1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4081C2F0-B806-4B5E-A6C3-50C49794B3A3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3:5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lvl="1" marL="341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798480" algn="ctr">
              <a:spcBef>
                <a:spcPts val="326"/>
              </a:spcBef>
              <a:buClr>
                <a:srgbClr val="3a75c4"/>
              </a:buClr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914400" algn="ctr">
              <a:spcBef>
                <a:spcPts val="326"/>
              </a:spcBef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028520" algn="ctr">
              <a:spcBef>
                <a:spcPts val="326"/>
              </a:spcBef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028520"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028520"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10080" y="77760"/>
            <a:ext cx="43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92AFB35D-408B-49AC-A47F-B973733DE8EF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1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340ECD44-1994-4BB0-AD19-E2054F3618A7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3:5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8720" y="115560"/>
            <a:ext cx="1981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9/30/08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98960" y="646200"/>
            <a:ext cx="564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Ma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42880" y="3067200"/>
            <a:ext cx="39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Impact"/>
              </a:rPr>
              <a:t>March 31, 2010 Proposed Val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34040" y="190440"/>
            <a:ext cx="24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Narrow"/>
              </a:rPr>
              <a:t>DRAFT 3/12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13:30Z</dcterms:created>
  <dc:creator>TBG</dc:creator>
  <dc:description/>
  <dc:language>en-US</dc:language>
  <cp:lastModifiedBy>LEVYD</cp:lastModifiedBy>
  <cp:lastPrinted>2008-04-09T04:03:18Z</cp:lastPrinted>
  <dcterms:modified xsi:type="dcterms:W3CDTF">2010-03-11T20:57:54Z</dcterms:modified>
  <cp:revision>4869</cp:revision>
  <dc:subject/>
  <dc:title>Page Title</dc:title>
</cp:coreProperties>
</file>